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5A3-A0A8-4742-A604-BC516A0B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1BD-A5AF-49D8-9F66-2220E68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192-E370-4188-B76B-39B3451A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291-B4B4-45C8-B379-98508B47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8CD6-AA9B-44B6-9C66-B4CC73EF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F0F-449C-4643-9C94-FDAA0FB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24CB-6066-4244-8CF1-4136C22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27EB-51BC-4C0E-847D-3B4787C4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79B-101D-48AD-964E-24D8639D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50E3-14D6-4F38-825D-C8CC924D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ACEF-7AFD-450E-9C72-28480A2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0D9-12D1-4CC2-8733-006BFB0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21E-D288-4BEE-B3B7-B8FF192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345B-C5C0-46D0-A5C5-05920B4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0D0-5DED-4420-890B-2A23298C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B28-E904-48E1-9A15-48D95649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456-FAD3-4654-9669-C3741EC0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9ED-9AD3-4E8B-A68D-D0DA457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14A-227F-46D0-A83D-6E9E087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C04-2AD8-4C56-A6FB-50F9307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530-1D72-4978-89E8-0A36CC7C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2BE-BEAE-40B7-A955-811139E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683-7F5B-4C5F-815F-0859EDC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755-DCFA-4B6F-80A1-740330C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40FC-7FB2-47F2-897D-A60E8F468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9E5D-B62C-44AC-9A38-FC562F684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Verdana"/>
              </a:rPr>
              <a:t>Question 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Ryan, Alecia, and Taihlo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fe as we know it could not exist without water. Water has the following propertie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t is cohesive, they form hydrogen bonds with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t is adhesive, they form hydrogen bonds with other polar su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t is a liquid at room body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it has high specific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it has high heat of vapor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t’s greatest density occurs at 4 degrees Celsi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44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90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433520"/>
            <a:ext cx="601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631880"/>
            <a:ext cx="6705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22Z</dcterms:created>
  <dc:creator>xpstudent</dc:creator>
  <dc:description/>
  <dc:language>en-US</dc:language>
  <cp:lastModifiedBy>xpstudent</cp:lastModifiedBy>
  <dcterms:modified xsi:type="dcterms:W3CDTF">2010-09-22T14:38:08Z</dcterms:modified>
  <cp:revision>4</cp:revision>
  <dc:subject/>
  <dc:title>Question 3 </dc:title>
</cp:coreProperties>
</file>